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A1E-94EE-4E59-9A83-4073662F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4F4-52A1-4CA7-B2AD-CEE7D291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445-F92C-49C4-9B1F-6A3793E7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A66-E49B-4DD6-B5E9-C082FA37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A22-A905-4B4C-BBA7-9E4BBC5C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1BC2-36B9-4CB1-83CC-388AF029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8FE-AC7E-4026-AD3A-5C60B33F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BC9F-62DB-4C53-B07F-678755A2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AC6-643E-4B05-A3D0-E4355ED4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18E-E62B-4714-A7C7-5DE8C864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8B9D-4CAC-407C-AAA0-7663ED7B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C72-ED60-4455-AD87-F7A334C1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4063-41DF-44F3-9DAF-6391295103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0"/>
            <a:ext cx="8534520" cy="75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歌舞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第一个节目</a:t>
            </a:r>
            <a:r>
              <a:rPr b="0" lang="zh-CN" sz="36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把新加坡的防御物展现给大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阅兵典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第二个节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各个种族的舞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人穿着像小笼包的服装表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每个人拿着不同的字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Haettenschweiler"/>
                <a:ea typeface="PMingLiU-ExtB"/>
              </a:rPr>
              <a:t>好像古老的打字机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228600"/>
            <a:ext cx="883944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个节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许多人扮演成海底的小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节目说的是个小男孩在沙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捡贝壳，遇到了暴风雨，迷路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表了邻居之间要互相帮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男孩的邻居帮忙找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0:33:50Z</dcterms:created>
  <dc:creator>Fujitsu</dc:creator>
  <dc:description/>
  <dc:language>en-US</dc:language>
  <cp:lastModifiedBy>Fujitsu</cp:lastModifiedBy>
  <dcterms:modified xsi:type="dcterms:W3CDTF">2011-07-26T11:12:36Z</dcterms:modified>
  <cp:revision>3</cp:revision>
  <dc:subject/>
  <dc:title>Slide 1</dc:title>
</cp:coreProperties>
</file>